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636-C77A-4B31-BE74-48647471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22B-0EAC-4A5B-BC1B-60CECDC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599-0987-43E0-9DDE-6860EC26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148-55C7-46D5-9739-220403FA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B8C-1D2C-4A28-B050-45060950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F25-368D-4CDB-8C7D-B205507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2FC-5EA1-4917-963D-BCD58E97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23D-68AC-4932-8FB3-8FFABD6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6A1-1DB8-47D2-9957-DE087D7E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6CD-9E13-44BA-8806-900FD63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956-10BE-4E97-8770-2216B25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F9E-4A1F-4E71-931D-A4ABCD9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C82-543F-4EDC-88D4-E414E050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ce Si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 R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Whe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380880"/>
          <a:ext cx="8305560" cy="587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305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ing o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e 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.5 the mass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a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sity of a planet has to be at least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gravity at equator of at least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ake planet does not meet thes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304920"/>
          <a:ext cx="8305920" cy="624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520" y="304920"/>
          <a:ext cx="8381880" cy="62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38188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3520" y="228600"/>
          <a:ext cx="8115120" cy="610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11512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280" y="228600"/>
          <a:ext cx="845820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582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04920"/>
          <a:ext cx="8305920" cy="62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228600"/>
          <a:ext cx="8534520" cy="64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534520" cy="64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380880"/>
          <a:ext cx="8458200" cy="598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4582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6:31:55Z</dcterms:created>
  <dc:creator>mchamorro</dc:creator>
  <dc:description/>
  <dc:language>en-US</dc:language>
  <cp:lastModifiedBy>ASD</cp:lastModifiedBy>
  <dcterms:modified xsi:type="dcterms:W3CDTF">2011-02-15T16:20:45Z</dcterms:modified>
  <cp:revision>5</cp:revision>
  <dc:subject/>
  <dc:title>Slide 1</dc:title>
</cp:coreProperties>
</file>